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242B-8A44-4E29-A5EF-344942B3E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C44D-2629-4076-A1C5-D802DB95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C7371-8A43-4C43-8F3E-9D0F0B66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BCF55-0E89-4F75-A14E-996C7DF5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0631A-97C7-4EEE-8C59-4EE014EB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CC326-CCA2-4819-B7AD-1421FD7B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5D8B8-2EBA-4E5B-A062-C9E2CBD2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4FE85-5070-4ECA-B8AF-98F2F7F7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6C304-5F4F-4C29-B69F-37A73970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280F2-17ED-42E1-B48F-9CF0138F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3EF2A-F4AD-4F67-93D8-72967FA6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C6AF9-E6C1-49A3-A801-5C8B48AD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7C1B-AD9A-4A44-91B9-0F899052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D35CD-6015-45ED-A598-9A26FE1A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5D6D1-171F-4016-8646-1A8E9E3A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C858A-C5F6-4A7F-BC5D-F7C1BDC4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93EE6-75B8-4060-B2D5-B0E9487C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410DC-9072-4DDF-8227-7160C546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0655B-5D90-415D-8DFB-8B12B904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DCAF4-0DFC-4626-8F9D-6EB8A697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47C16-C264-41FD-9695-2A5F5B55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518EA-1143-4F92-BBC5-9E9C534D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1D985-3FAB-49F1-8B1E-C136B597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FD6F-C5F7-4155-A3A2-00E24281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1B5A5-8515-4C8B-AD76-23B70A12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48CE4-BBB3-4A7D-89C6-7D7B8154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852E0-354D-468E-AD5C-7682CB3B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6CF0E-7013-41EA-9413-C5EBC451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D451D-346C-4D3C-8536-4D703E04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1C755-53F3-4D85-827E-68A670F2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58D5B-D41C-4103-8712-F19E46A3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BBFC3-A670-4BB4-8808-1DEA1A51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FA080-7405-4EDB-97B1-AE5D7577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210D0-840B-4AD5-BADC-1D7F87F5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070D-97D2-4839-BB01-4900207E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DC305-9FFA-4E5D-BE0C-486E43ED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B4239-D1E4-4EE5-93C5-2A35004A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2E6B8-9767-4BCC-A894-03C95798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B825D-9A20-4217-A9A9-50AEECF4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13A4A-A339-42CE-BC28-B4AAF5BD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5255C-5148-498B-BBC5-3938B14A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68A1D-0FBE-4D68-8AC4-683D2707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894FD-6377-441D-AE7B-D4BF73B6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25EE0-8D5F-4F5F-B72E-F703FACC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B23FF-50CD-40EB-9351-F4CC69ED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3C72-0859-4DAD-8CB0-50C3F5A1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AAA8D-D5C0-4EA3-B826-F597DEB9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50E78-285B-4A89-AE11-6C3A67E9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A6C25-C59F-43D1-8CC1-BC7BDB5E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A8DF22-7721-481B-BE98-92C88E2A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E8FECD-EB64-4CE8-9902-980C5D5F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9CCC-21C3-45F0-8D2A-AAA66F9A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76E0-EA96-4761-9666-7A9546E0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0862-6AE8-465D-BAF6-D3AB5585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F330-8820-4B20-8A1B-3ECDA20B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82D7-2F22-4C2C-A8CC-E41CB143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3E72-4762-458A-926B-D7762FF5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770C-7B1D-4642-BC2C-894B9E52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1A16-1B50-489A-B150-206D4774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A02D-2AAE-4941-9F1D-E5237072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E483-0D4B-405B-88AD-08F80A28B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BF48-9663-4CA3-B599-5C60CDED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9824F-2112-4762-A4FC-A8642DA3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E2C1F-B7FD-4340-8A6B-020C7A36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470C4-5E34-45D3-A3A4-9D621A21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DCCFA-29B8-4F15-AFD2-5AF3AF3E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EA396-3F50-4F73-902E-FE2FB749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0E34-1F01-418C-922B-71E920AB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2A539-6A93-4C4A-84AE-D9FCA0E7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0352E-886D-4476-99AF-0D851944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E321C-D861-4B2A-BB29-7DDBAD21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740E2-AF45-4D47-A31A-9BC72D70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817AD-19C4-4A76-9E6C-CB37E419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7D6B0-2532-49FB-BCB0-699CBF747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650E2-EF45-44A7-B7CD-20515FFE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1BBEC-0AF4-495A-8EB3-4FFEBE87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EFCEB-34FD-4CBF-9053-FDDDA91B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8BB36-379A-4E19-B789-0ABEFEDB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4D24-2F42-4138-B3F7-59A53D66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D183D-F0E8-44B6-9E7F-8ABC0845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61D2B-216A-4B3F-A8C5-DEA667DD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9F41C-F6DE-4C07-9CF7-D8899446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90146-6088-4605-B720-40C887E2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D56A4-D835-48DA-A310-DCDF2CC0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3E964-E11E-4818-A012-E815326B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C5F89-4C68-4505-88D7-99337795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26DB9-C4E4-4AF0-9725-64A1EA6E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9BAB4-E807-42C5-920F-B475CD44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F0C1D-587C-4C39-9C24-FE839EE2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F0A8-148F-451F-A2FF-22EE28D1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222F0-94AD-47B6-9CF4-15AF5242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4D2AA-F224-4CC7-90DC-A3DB924D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C5754-6E98-48ED-BA0C-92935856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207C8-D67B-4953-9352-BD563153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A78B5-3EDB-4B1C-BC63-51AA0F6E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AD929-9440-4686-9E0F-1783D974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AB27B-3747-4B91-846E-EAA5839C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A2FF7-5AE3-4295-96E0-D4627355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D9155-873D-49D7-9653-7645EE22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A878F-C1C5-437D-A777-A88EF36C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3B7A-4487-48E8-AF41-ED42F039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25E1C-8CC1-4453-9ADD-FB232E5A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A6C61-C068-4944-AE92-954D3089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8B8EA-9B35-4109-AEF0-37F1AA41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85516-8D29-44B9-8B1B-19488D07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F8993-F7B0-47A4-A781-77B92012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5B0C8-0AB6-4115-AA4B-FC021EF8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F9A7E-BDC8-4E50-B9E9-04F4C9D4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F1FB7-D077-4763-8F31-D83626EA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EEB80-6673-4175-946C-1C3A4EE2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E090B-B61F-4514-98C7-3FDF2AA3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455B-0329-4AC0-8CEA-01F52965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1D426-CEC7-407C-A949-5F8C9335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B6633-CDC5-4D00-875D-581DF4F0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67847-3E75-4805-82A3-F12D0B55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8E92F-6714-4CC8-A1B7-B496BC6B6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6B71C-4B42-4C3D-AB29-6C6B4310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FE068-A962-48C4-B842-C98B4951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D5444-9881-4405-8EFF-71AF419F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B6A01-D93B-4046-AF7D-C4F7523B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4FC70-0B57-4F2A-8052-C265A70E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5824B-A54C-459C-947F-8BDC64BD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879B-6A1C-4CB8-AD81-69FCB54B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D29D2-CFBD-4F11-9E28-7A379799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C5DCB-61A6-4DCE-B7E1-4DD3D51A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619FB-B900-4FA5-A44C-8B4C71F1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0813B-13B6-4E6A-80B8-A0C099BC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DF810-9983-4200-B9F8-DF883952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129A4-F216-40BA-A3CC-A466CEB6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CBF44-43B6-4DFE-BE3B-7893401D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77A20-53EB-4DED-A244-B124008B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E0E46-6A00-4A46-9FE6-2BFF6EB7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6F0FC-CA8E-4BC8-95A6-C9017023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8EEE-B2DF-424B-8DA3-0BCC2CE7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C632C-2BC2-493D-B6AE-7946B986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E42DD-D034-4E9F-9EF0-17F96E18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4D823-34AC-4134-AFDC-FDD93AE7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FAB62-C147-4D4E-A5E5-92A74F62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29357-72DD-43CB-8166-50C91CCE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EDD59-8419-41D2-9119-932BEBB4A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27664-01E4-4958-B314-12C884AD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D665F-22BA-43ED-921D-E495D908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44C5A-C501-4A0F-96AE-154F795E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0EC20-7B21-4CE1-8AFE-FC3CD39F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3627-2D29-4BFD-9324-03C05CF37AA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9848-396B-441D-A07A-94912AF4181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2AC7-63D0-4666-A02E-0082CE99423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92AF-7A3A-434A-A692-CE7BAC67C68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DA54-BEB6-4B66-AC37-BBDDEB8DBD1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4F36-D3A2-4DA6-8122-348ECE2478C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01E5-A7F9-4984-8D2B-2BB3AB24BF8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D89B-D55C-48C0-A9C2-2FE98228EF1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08F0-B262-4495-82CE-0D0B511BC5A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CE30-D20F-442D-A896-4B03A860D1F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E836-16AE-4552-BD9C-FACF384968C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56D1-BAEB-4F4D-B773-6A623DA5B81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87 Ráč prísť k 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uchu prav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č prísť k 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uchu pravd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oc svoju daruj ná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túžbou našou navžd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kráčať k nebe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sŕdc nám vlievaj stál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zjavný lásky žiar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s nauč obeť chvál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iesť vždy ti na oltá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zmätok, blud sa šír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zmáha vôkol 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m pridaj, Pane, vier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 zmužilosti v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j svojmu ľudu sil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 celú Ducha zbro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bdelosť v každej chvíl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dobrý je náš b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na Turíce nové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s denne pripravu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k v skutku ako v slov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vidíš náprav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j trpezlivosť v kríž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 láske stálosť praj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tvoj sa rýchlo blíž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s v pravde zachovaj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1-14T18:03:03Z</dcterms:modified>
  <cp:revision>14</cp:revision>
  <dc:subject/>
  <dc:title>Je veľký náš Pán, on slávy je Kráľ Nech do všetkých strán  spev vrúcnych znie chvál.</dc:title>
</cp:coreProperties>
</file>